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989-3832-4DE0-B1F2-DE2D1BA4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673-BB70-480B-9B94-C7DDB3CC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9DF-2681-4D20-8E0B-08ED67B5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CE4-7949-4BD9-9723-A72B6A6E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D63-9B70-4CCB-9F70-05707806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AA2-3DCB-4CDE-B6B3-9931D0E7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081-2F93-4241-80B1-C0CAE812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F94-B34C-4FB4-ACB6-70DEE4C8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FCF-04FA-448D-B445-D56E4D34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7C2-A335-4337-B05D-3BA60B19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748-B9F7-4542-8925-D8EF134A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FBD-32A3-43C4-8169-7A50EF50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E30D-67A5-46E5-85B4-FAA3EBC04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library.utmb.edu/scopes/toy3.jpg&amp;imgrefurl=http://library.utmb.edu/scopes/toy.htm&amp;h=370&amp;w=250&amp;prev=/images%3Fq%3Dmicroscopes%26start%3D120%26svnum%3D10%26hl%3Den%26lr%3D%26ie%3DUTF-8%26sa%3DN" TargetMode="External"/><Relationship Id="rId2" Type="http://schemas.openxmlformats.org/officeDocument/2006/relationships/hyperlink" Target="http://images.google.com/imgres?imgurl=library.utmb.edu/scopes/toy3.jpg&amp;imgrefurl=http://library.utmb.edu/scopes/toy.htm&amp;h=370&amp;w=250&amp;prev=/images%3Fq%3Dmicroscopes%26start%3D120%26svnum%3D10%26hl%3Den%26lr%3D%26ie%3DUTF-8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2171520" cy="210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5410080" cy="32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133720" y="2514600"/>
            <a:ext cx="4505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99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icroscope Not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99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yepiece Le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ive Le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Magn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Power  = 4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um Power = 10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Power = 40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33720" y="990720"/>
            <a:ext cx="54100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Objective Len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cro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or more lense that makes an enlarged image of an ob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858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eoscop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4114800" cy="4190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52480" y="533520"/>
            <a:ext cx="5181840" cy="10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ypes of Microscop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Micro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a magnifying glass and has only one l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143160" y="2666880"/>
            <a:ext cx="28576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ound Micro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s light pass through an object and then through two or more len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05320" y="2971800"/>
            <a:ext cx="25146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reoscopic Micro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a three dimensional view of an object. (Examples: insects and leave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ctron Micro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ses a magnetic field to bend beams of electrons; instead of using lenses to bend beams of ligh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48640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L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larges an image and bends the light toward your ey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2743200" cy="296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78560" y="2743200"/>
            <a:ext cx="356544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200400" y="4495680"/>
            <a:ext cx="2664000" cy="20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yepiece L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s a power of 10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96216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20:12:30Z</dcterms:created>
  <dc:creator>Elizabeth Wilson</dc:creator>
  <dc:description/>
  <dc:language>en-US</dc:language>
  <cp:lastModifiedBy>berea college</cp:lastModifiedBy>
  <dcterms:modified xsi:type="dcterms:W3CDTF">2006-09-10T23:58:30Z</dcterms:modified>
  <cp:revision>4</cp:revision>
  <dc:subject/>
  <dc:title>PowerPoint Presentation</dc:title>
</cp:coreProperties>
</file>